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68-A698-42F6-829B-AD828056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7B0-B26E-48C9-B3E9-B8F8B9D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532-1256-48CF-8ED6-1E5CBC61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D67-6B96-470D-BA81-F44CBCB2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BE0-3794-4254-892A-2B846E6D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A694-11F9-48E3-867B-178047D8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7CF7-FCA7-453E-9103-E34E2CB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902-B7DE-46AC-89ED-E162841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AED-F140-47B9-8A0C-F397230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969F-742B-475E-BCE7-41A5D62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66D7-0991-4195-87A2-AF92FC4E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E5B-B73A-4FC9-B983-793B3C30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7883-78D4-49A3-A056-DF2E31E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6154-819F-47C0-B825-4B04ED8A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FBD-F469-47AD-A9A9-3C823F2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803-69F5-408A-B034-A3069101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9D60-B113-4B62-8775-8335CF82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99-B116-4593-9E54-02AD2628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EE9-5267-478D-8057-D4B2F36A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37E-B77F-4BA7-9A4E-004836A8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0F5-E6EC-4DAA-8567-C0C5351B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BD3-8ADA-4674-A462-24B25C3D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029-8B60-44A1-BEDF-66822B8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2E9-F079-401A-8ACC-B362BAE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BA4D-9BF0-429C-B021-0D779492D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6742-50AE-4A46-8E4D-943D403B9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se.ufl.edu/~dcc/pub/flag/flag6600.gif&amp;imgrefurl=http://academic.udayton.edu/rotc/section_ii__history_and_traditi.htm&amp;usg=__lbWkKB0HkSVCpYtBVVVbeWesKYU=&amp;h=3473&amp;w=6600&amp;sz=81&amp;hl=en&amp;start=10&amp;tbnid=SdXCLB1p8lBlwM:&amp;tbnh=79&amp;tbnw=150&amp;prev=/images%3Fq%3DUnion%2BArmy%2BFlag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ivilwar.com/" TargetMode="External"/><Relationship Id="rId2" Type="http://schemas.openxmlformats.org/officeDocument/2006/relationships/hyperlink" Target="http://www.lincolnbicentennial.gov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ncoln’s Lif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olton Crocket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ron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91360" y="3276720"/>
            <a:ext cx="2646360" cy="31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clu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thing that Lincoln accomplished was saving the Union and freeing th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4114800"/>
            <a:ext cx="2952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orks Cit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civilwar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3/16/0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lincolnbicentennial.gov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3/16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estling Presidents, by William S. Worley and Gary M. Gray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you will lear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’s impact on the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esidency during the Civil W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n that started the Civil Wa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610080"/>
            <a:ext cx="3352680" cy="3247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ncoln’s Childho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Kentucky in a log ca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on February 12,18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other died in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4524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mil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- Nancy Hanks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- Thomas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ther &amp; Sister-Thomas &amp; Sarah 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Mother- Sarah Johns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- Mary To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ons- Robert, Edward Baker, William, Th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22860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restl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estled his neighbors when he was a young b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lled it “no-holds-barr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on the county championship at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a job, and wrestled every evening after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365200"/>
            <a:ext cx="43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litics before Presid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 for Illinois Legisl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4100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esiden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ugurated as president in March 18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is, seven states seceded from th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ed a strong cabinet that included all of his major riv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ortant Achieve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ncipation Procla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the Union and freeing the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ysburg Address (Nov. 19, 18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7782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ssassination of Lincol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John Wilkes Bo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ding a theater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from behind, in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killer was never f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3434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49:46Z</dcterms:created>
  <dc:creator>aaronjlease</dc:creator>
  <dc:description/>
  <dc:language>en-US</dc:language>
  <cp:lastModifiedBy>aaronjlease</cp:lastModifiedBy>
  <dcterms:modified xsi:type="dcterms:W3CDTF">2009-03-20T15:49:00Z</dcterms:modified>
  <cp:revision>11</cp:revision>
  <dc:subject/>
  <dc:title>Lincoln’s Life</dc:title>
</cp:coreProperties>
</file>